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A784-41C8-4B88-B715-756EB41AD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71E4-9DF7-4C40-873D-DDFF7380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1861-CB5C-4EFA-A3A4-71FCE2226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0814-9FFB-4437-B464-0FD0D5824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9ED29-061B-4FA5-9583-55E0EEE0E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BF9492-D225-4A32-8623-C77F0CFF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30762-8D8F-4F99-80FC-81E53CF9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064367-B12F-431D-95BA-A01209E7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06FFD-6498-456C-80E7-86266091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40F2F-076B-4869-9FEC-BEE37D05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50E41-3378-4D97-8A1E-58C2976C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C0A6-6724-4A4C-9A0D-5A90B3BA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2C81CC-255F-40BA-93D7-60192FBC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CE0B9-5C92-498A-9E30-16A73EE6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8329F-47DD-46E1-B340-5E44D856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52D1B-8AED-43C1-A447-D0BA7A074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9D9C6-BA33-42DA-B32D-2D0C56BC6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5DBF-4A0D-46EB-AA44-761E79E2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C476-5005-44D4-B1F2-ACD0453C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DC23-DF00-40C3-AD03-5C8B8DDB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272B-B230-4E13-B892-A76D185F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2986-F54B-4194-AC58-F3C4D7D5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EF89-6D83-40E5-80FA-F86287B9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A022-96DC-4D5E-AF7B-F65E4195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32B7-5FB1-4EF1-AAFF-09922A1613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895C-D59B-4729-972A-2E507F85D0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42920" y="333360"/>
            <a:ext cx="4753080" cy="9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Muwashshaha XX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Miradas de dulce embrujo de am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me han llenado el alma, más l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grana de esa bo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que aún al censor es sagra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Si el corazón de esa cierv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se ablanda, posará el mí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e su rebaño no cuid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ni ve que el mío se ha huíd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Ella es todo para el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y para mí, y la he perdid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Éstas son, ay mis censore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de amor señas declarad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suspiros abrasadore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aunque se aneguen en lágrimas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00000" y="0"/>
            <a:ext cx="424836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Lo que </a:t>
            </a: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ese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talle de pal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carga sobre mí me abrum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Que yo vele y ella duerm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me conduce a la locur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No halla el corazón respir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e tanto amor y amargur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Deja de mi ser un poc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(ni creo que a quedar vaya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y así  verás a qué extrem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me conduce mi desgra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Mía, al lado de Hauzáni, es la flecha ganadora.¡Oh sable fino del Yemen al que sus hazañas doran; ángel con semblante humano que la descripción desborda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león de las espesura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muerte que plazos señala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aurora que, cuando brill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el mundo entero engalana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692360" y="0"/>
            <a:ext cx="7200720" cy="74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Abu Hafs, párate un punt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Magias te recito: atien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e ti se gloria el imperi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e un corazón bravo y fuert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El mío toma en albricia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si a tu lado has de acogerm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Para nutrir a los homb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Dios te hizo a ti pura dádiv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¡</a:t>
            </a: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Tanta merced celebremos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¡Subamos cimas tan alta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050920" y="907920"/>
            <a:ext cx="4700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32000" y="765000"/>
            <a:ext cx="55846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A una de teñidos dedo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que es de la belleza esenci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oncella que todos mir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y que: ilumina estas tierra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fuí a ver, entrando el veran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y cantó por mí y por ella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¡ALBO DlYA H ESTE DlYA H 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lYA DEL  ANSARA HAQQA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BESTlRÉY ME-W L-MUDABB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WA NASUQQU R-RUMHA SAQQ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[ALBO DÍA ESTE DÍ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DÍA DE LA ANSARA EN VER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VESTIRÉ MI JUB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Y QUEBRAREMOS LA LANZA]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9T01:16:12Z</dcterms:created>
  <dc:creator> </dc:creator>
  <dc:description/>
  <dc:language>en-US</dc:language>
  <cp:lastModifiedBy> </cp:lastModifiedBy>
  <dcterms:modified xsi:type="dcterms:W3CDTF">2007-09-29T01:46:28Z</dcterms:modified>
  <cp:revision>4</cp:revision>
  <dc:subject/>
  <dc:title>Diapositiva 1</dc:title>
</cp:coreProperties>
</file>